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067-71A5-4AB1-A74D-782B0BA3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117-891E-4838-AAA1-3659193C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A06-7910-4D65-B0AA-36063795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FA1-13E8-43F7-9205-FE038544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A029-0377-43B8-9208-F227CC05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68BF-AE91-4470-BFE5-B3CB63A8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E26A-CF73-490A-9A7F-6A8D0AC9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415D-0157-46C5-9A0E-DBEF12BB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A791-A787-44D1-8791-947A30C5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7B31-44ED-46AC-A6C8-BD68FADF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2945-F761-4FB8-8EF4-FD7A8238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F17-9946-4BF4-82EB-B962D50F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BA08-A8BA-41AC-A0C3-722767E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3CDC-5830-47A3-B58F-AE80303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1D08-629A-4BF8-A955-D1B7B3FE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8ED8-F741-44C7-88B4-1AA9890E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4F36-000C-45C2-AE15-5BE937FF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888-0410-48B0-AD83-FDF55639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83D-B2D7-4590-9047-6A560989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235-307B-4B43-9094-AC2A2BE4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C8B-14B7-487C-BBAE-66FC4AA9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945-E085-4AAD-917E-CE5E28F7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34E-4E66-489D-A892-BB34B6DC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930-D6DF-40B3-AB1A-3B7F3048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4995-6F93-4F6F-B30A-CFD619694B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3415-FA2A-486F-AE24-FA190C3030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-Filled Day On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DOL/Ana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“t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eativity assign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three-sentence paragraph using only the first half of the alphabet, letters A-L. (You may not use t, m, s, or any other letter that appears past L. This is where the challenge comes 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prepared to sh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liked a lake. He did feel a gale. He hiked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3:45:12Z</dcterms:created>
  <dc:creator>Angie</dc:creator>
  <dc:description/>
  <dc:language>en-US</dc:language>
  <cp:lastModifiedBy>Angie</cp:lastModifiedBy>
  <dcterms:modified xsi:type="dcterms:W3CDTF">2011-08-22T05:12:27Z</dcterms:modified>
  <cp:revision>3</cp:revision>
  <dc:subject/>
  <dc:title>English</dc:title>
</cp:coreProperties>
</file>